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6539-03B8-4F11-A4F3-8F7748D859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1E2C-C908-43C7-8F37-EBF8802A12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9B7-C27A-44D8-B182-D230DD46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E35-782E-4D29-8D4D-A1B86F86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53A-31CA-45F3-9928-4AEA474D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4C2-4FF0-4EF5-B5E3-FB9F1C5E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A07-463D-4647-9CFF-727297CB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C13-CC21-4DE2-91EF-A3F43065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804-0FF3-4665-AD3B-A16310CB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7D8-C172-44C4-96B7-E4D35E84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4DC-D4E0-474D-8FB1-E499BF13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66A-E852-4983-9A8A-111B1B7B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349-E717-4184-AD61-814D313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FA2-3F89-4B5F-ACA9-EE78B33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8869-77DB-4D36-9492-3511D7E14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34147" descr=""/>
          <p:cNvPicPr/>
          <p:nvPr/>
        </p:nvPicPr>
        <p:blipFill>
          <a:blip r:embed="rId1"/>
          <a:stretch/>
        </p:blipFill>
        <p:spPr>
          <a:xfrm>
            <a:off x="803160" y="2306520"/>
            <a:ext cx="7454880" cy="4299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665160" y="83664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信　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5794920" y="148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秋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1813680" y="1681200"/>
            <a:ext cx="54655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的故乡——浙江余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离上海比较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2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就有不少人去上海谋生。当时邮政业务尚未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到乡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城乡之间的通讯需要专人担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是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信客这种特殊职业。作者从小就听说家乡信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事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信客的酸甜苦辣记忆犹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是撰写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对角圆角矩形 5"/>
          <p:cNvSpPr/>
          <p:nvPr/>
        </p:nvSpPr>
        <p:spPr>
          <a:xfrm>
            <a:off x="611280" y="1628640"/>
            <a:ext cx="8137440" cy="4104000"/>
          </a:xfrm>
          <a:custGeom>
            <a:avLst/>
            <a:gdLst/>
            <a:ahLst/>
            <a:rect l="l" t="t" r="r" b="b"/>
            <a:pathLst>
              <a:path w="8136904" h="4104456">
                <a:moveTo>
                  <a:pt x="684089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3420366"/>
                </a:lnTo>
                <a:cubicBezTo>
                  <a:pt x="8136904" y="3798178"/>
                  <a:pt x="7830627" y="4104455"/>
                  <a:pt x="7452815" y="4104455"/>
                </a:cubicBezTo>
                <a:lnTo>
                  <a:pt x="0" y="4104456"/>
                </a:lnTo>
                <a:lnTo>
                  <a:pt x="0" y="4104456"/>
                </a:lnTo>
                <a:lnTo>
                  <a:pt x="0" y="684089"/>
                </a:lnTo>
                <a:cubicBezTo>
                  <a:pt x="0" y="306277"/>
                  <a:pt x="306277" y="0"/>
                  <a:pt x="68408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5" descr=""/>
          <p:cNvPicPr/>
          <p:nvPr/>
        </p:nvPicPr>
        <p:blipFill>
          <a:blip r:embed="rId2"/>
          <a:stretch/>
        </p:blipFill>
        <p:spPr>
          <a:xfrm>
            <a:off x="2900520" y="4710240"/>
            <a:ext cx="442260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"/>
          <p:cNvSpPr/>
          <p:nvPr/>
        </p:nvSpPr>
        <p:spPr>
          <a:xfrm>
            <a:off x="2187360" y="1609560"/>
            <a:ext cx="493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讲述的是民国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家乡的“信客”帮助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些离乡去城市谋生的人送信时发生的故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赞扬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任劳任怨、恪尽职守、诚信无私、洁身自好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人宽容、善良厚道的美好品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中我们也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到中国传统的人文特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今天的思想道德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也有积极的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对角圆角矩形 5"/>
          <p:cNvSpPr/>
          <p:nvPr/>
        </p:nvSpPr>
        <p:spPr>
          <a:xfrm>
            <a:off x="611280" y="1484280"/>
            <a:ext cx="8064360" cy="4176720"/>
          </a:xfrm>
          <a:custGeom>
            <a:avLst/>
            <a:gdLst/>
            <a:ahLst/>
            <a:rect l="l" t="t" r="r" b="b"/>
            <a:pathLst>
              <a:path w="8064896" h="4176464">
                <a:moveTo>
                  <a:pt x="696091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480372"/>
                </a:lnTo>
                <a:cubicBezTo>
                  <a:pt x="8064896" y="3864812"/>
                  <a:pt x="7753245" y="4176463"/>
                  <a:pt x="7368805" y="4176463"/>
                </a:cubicBezTo>
                <a:lnTo>
                  <a:pt x="0" y="4176464"/>
                </a:lnTo>
                <a:lnTo>
                  <a:pt x="0" y="4176464"/>
                </a:lnTo>
                <a:lnTo>
                  <a:pt x="0" y="696091"/>
                </a:lnTo>
                <a:cubicBezTo>
                  <a:pt x="0" y="311651"/>
                  <a:pt x="311651" y="0"/>
                  <a:pt x="69609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93" name="RJ10.eps" descr="id:2147501533;FounderCES"/>
          <p:cNvPicPr/>
          <p:nvPr/>
        </p:nvPicPr>
        <p:blipFill>
          <a:blip r:embed="rId2"/>
          <a:stretch/>
        </p:blipFill>
        <p:spPr>
          <a:xfrm>
            <a:off x="468360" y="148428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2091240" y="1468440"/>
            <a:ext cx="5145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在写信客之前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为什么先写一个老信客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写老信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上说明了信客这一职业的两个特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是路途艰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是强调职业道德──“就在一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这个“信”字要做到一丝不苟的地步。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既以自己的丰富经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年轻信客以具体切实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惨痛的教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时时警醒着年轻信客。这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促使年轻信客迅速成为可以信赖的信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标注 5"/>
          <p:cNvSpPr/>
          <p:nvPr/>
        </p:nvSpPr>
        <p:spPr>
          <a:xfrm>
            <a:off x="395280" y="2276640"/>
            <a:ext cx="8424720" cy="3816360"/>
          </a:xfrm>
          <a:prstGeom prst="wedgeRoundRectCallout">
            <a:avLst>
              <a:gd name="adj1" fmla="val 7217"/>
              <a:gd name="adj2" fmla="val -5200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1790640" y="763560"/>
            <a:ext cx="5337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   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怎样理解信客的职业、品格和素质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任劳任怨。他理解在外谋生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理解在家的家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他们的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与感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情不分内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要有求于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辛苦他也在所不辞。有时候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得忍受无端的猜疑与羞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诚信无私。他铭记老信客的嘱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信客就在一个“信”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诚信是这个职业的生命。诚信以不贪为前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洁身自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不雁过拔毛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正大光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不怕别人怀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待人宽容。他在发财的同乡那里遭遇了凶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不想让在外的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乡蒙受阴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乡后也没有挑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说任何坏话。他保护了一个家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的阅历又让他增长了才干。他年轻时屡屡碰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穷愁潦倒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信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化程度提高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眼界开阔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历丰富了。他当教师是好样的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校长是好样的校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赢得了社会普遍的赞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对角圆角矩形 5"/>
          <p:cNvSpPr/>
          <p:nvPr/>
        </p:nvSpPr>
        <p:spPr>
          <a:xfrm>
            <a:off x="250920" y="907920"/>
            <a:ext cx="8353440" cy="5400720"/>
          </a:xfrm>
          <a:custGeom>
            <a:avLst/>
            <a:gdLst/>
            <a:ahLst/>
            <a:rect l="l" t="t" r="r" b="b"/>
            <a:pathLst>
              <a:path w="8352928" h="5400600">
                <a:moveTo>
                  <a:pt x="900118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4500481"/>
                </a:lnTo>
                <a:cubicBezTo>
                  <a:pt x="8352928" y="4997602"/>
                  <a:pt x="7949931" y="5400599"/>
                  <a:pt x="7452810" y="5400599"/>
                </a:cubicBezTo>
                <a:lnTo>
                  <a:pt x="0" y="5400600"/>
                </a:lnTo>
                <a:lnTo>
                  <a:pt x="0" y="5400600"/>
                </a:lnTo>
                <a:lnTo>
                  <a:pt x="0" y="900118"/>
                </a:lnTo>
                <a:cubicBezTo>
                  <a:pt x="0" y="402997"/>
                  <a:pt x="402997" y="0"/>
                  <a:pt x="90011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4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7" dur="2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0" dur="2000"/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"/>
          <p:cNvSpPr/>
          <p:nvPr/>
        </p:nvSpPr>
        <p:spPr>
          <a:xfrm>
            <a:off x="2047680" y="1609560"/>
            <a:ext cx="5416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为什么倾注那么大热情为信客树碑立传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是作者肯定的人物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作者褒扬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知道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在提倡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联系现实生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可以揣摩作者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作意图。作者褒扬信客任劳任怨、诚信无私、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宽容的品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些品质都是难能可贵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是在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中需要大力提倡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标注 5"/>
          <p:cNvSpPr/>
          <p:nvPr/>
        </p:nvSpPr>
        <p:spPr>
          <a:xfrm>
            <a:off x="539640" y="2349360"/>
            <a:ext cx="8280360" cy="3383280"/>
          </a:xfrm>
          <a:prstGeom prst="wedgeRoundRectCallout">
            <a:avLst>
              <a:gd name="adj1" fmla="val 8995"/>
              <a:gd name="adj2" fmla="val -5293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3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9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1641240" y="960120"/>
            <a:ext cx="420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加点的字注音不正确的一项是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ì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文绉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ō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噩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è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伎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ìl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吊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唏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诘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ié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焦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u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4"/>
          <p:cNvSpPr/>
          <p:nvPr/>
        </p:nvSpPr>
        <p:spPr>
          <a:xfrm>
            <a:off x="3564000" y="206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5"/>
          <p:cNvSpPr/>
          <p:nvPr/>
        </p:nvSpPr>
        <p:spPr>
          <a:xfrm>
            <a:off x="3203640" y="2565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6"/>
          <p:cNvSpPr/>
          <p:nvPr/>
        </p:nvSpPr>
        <p:spPr>
          <a:xfrm>
            <a:off x="3492360" y="256536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8"/>
          <p:cNvSpPr/>
          <p:nvPr/>
        </p:nvSpPr>
        <p:spPr>
          <a:xfrm>
            <a:off x="1258920" y="206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9"/>
          <p:cNvSpPr/>
          <p:nvPr/>
        </p:nvSpPr>
        <p:spPr>
          <a:xfrm>
            <a:off x="971640" y="2565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0"/>
          <p:cNvSpPr/>
          <p:nvPr/>
        </p:nvSpPr>
        <p:spPr>
          <a:xfrm>
            <a:off x="320364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11"/>
          <p:cNvSpPr/>
          <p:nvPr/>
        </p:nvSpPr>
        <p:spPr>
          <a:xfrm>
            <a:off x="3564000" y="3645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12"/>
          <p:cNvSpPr/>
          <p:nvPr/>
        </p:nvSpPr>
        <p:spPr>
          <a:xfrm>
            <a:off x="971640" y="3645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3"/>
          <p:cNvSpPr/>
          <p:nvPr/>
        </p:nvSpPr>
        <p:spPr>
          <a:xfrm>
            <a:off x="1258920" y="306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4"/>
          <p:cNvSpPr/>
          <p:nvPr/>
        </p:nvSpPr>
        <p:spPr>
          <a:xfrm>
            <a:off x="5960520" y="328464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绉”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ōu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5"/>
          <p:cNvSpPr/>
          <p:nvPr/>
        </p:nvSpPr>
        <p:spPr>
          <a:xfrm>
            <a:off x="6168600" y="1052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135520" y="3869280"/>
            <a:ext cx="246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句中有错别字的一项是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已经长途跋涉了二三十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读过私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长后外出闯码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名誉糟蹋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这乡间不能没有信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茅屋外只有劲利的山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468360" y="587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利—厉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对角圆角矩形 17"/>
          <p:cNvSpPr/>
          <p:nvPr/>
        </p:nvSpPr>
        <p:spPr>
          <a:xfrm>
            <a:off x="468360" y="5877000"/>
            <a:ext cx="3672000" cy="504720"/>
          </a:xfrm>
          <a:custGeom>
            <a:avLst/>
            <a:gdLst/>
            <a:ahLst/>
            <a:rect l="l" t="t" r="r" b="b"/>
            <a:pathLst>
              <a:path w="3672408" h="504056">
                <a:moveTo>
                  <a:pt x="84011" y="0"/>
                </a:moveTo>
                <a:lnTo>
                  <a:pt x="3672408" y="0"/>
                </a:lnTo>
                <a:lnTo>
                  <a:pt x="3672408" y="0"/>
                </a:lnTo>
                <a:lnTo>
                  <a:pt x="3672408" y="420044"/>
                </a:lnTo>
                <a:cubicBezTo>
                  <a:pt x="3672408" y="466442"/>
                  <a:pt x="3634795" y="504055"/>
                  <a:pt x="3588397" y="504055"/>
                </a:cubicBezTo>
                <a:lnTo>
                  <a:pt x="0" y="504056"/>
                </a:lnTo>
                <a:lnTo>
                  <a:pt x="0" y="504056"/>
                </a:lnTo>
                <a:lnTo>
                  <a:pt x="0" y="84011"/>
                </a:lnTo>
                <a:cubicBezTo>
                  <a:pt x="0" y="37613"/>
                  <a:pt x="37613" y="0"/>
                  <a:pt x="8401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对角圆角矩形 18"/>
          <p:cNvSpPr/>
          <p:nvPr/>
        </p:nvSpPr>
        <p:spPr>
          <a:xfrm>
            <a:off x="5148360" y="3284640"/>
            <a:ext cx="3816360" cy="431640"/>
          </a:xfrm>
          <a:custGeom>
            <a:avLst/>
            <a:gdLst/>
            <a:ahLst/>
            <a:rect l="l" t="t" r="r" b="b"/>
            <a:pathLst>
              <a:path w="3816424" h="432048">
                <a:moveTo>
                  <a:pt x="72009" y="0"/>
                </a:moveTo>
                <a:lnTo>
                  <a:pt x="3816424" y="0"/>
                </a:lnTo>
                <a:lnTo>
                  <a:pt x="3816424" y="0"/>
                </a:lnTo>
                <a:lnTo>
                  <a:pt x="3816424" y="360038"/>
                </a:lnTo>
                <a:cubicBezTo>
                  <a:pt x="3816424" y="399807"/>
                  <a:pt x="3784184" y="432047"/>
                  <a:pt x="3744415" y="432047"/>
                </a:cubicBezTo>
                <a:lnTo>
                  <a:pt x="0" y="432048"/>
                </a:lnTo>
                <a:lnTo>
                  <a:pt x="0" y="432048"/>
                </a:ln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5302800" y="38606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2754720" y="888120"/>
            <a:ext cx="3943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句中加点词运用不正确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噩耗传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人大放悲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说自己赚了钱要接济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半夜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儿还没有回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妈妈焦虑万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半辈子的风尘苦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整一条路都认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下列句子所用的描写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能不干这档子事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。说什么我也是同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不尽一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乡情乡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到乡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就夹上一把黑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伞柄朝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朝死者家里走去。（     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539640" y="3284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为“焦急”或“焦灼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对角圆角矩形 5"/>
          <p:cNvSpPr/>
          <p:nvPr/>
        </p:nvSpPr>
        <p:spPr>
          <a:xfrm>
            <a:off x="539640" y="3284640"/>
            <a:ext cx="4753080" cy="431640"/>
          </a:xfrm>
          <a:custGeom>
            <a:avLst/>
            <a:gdLst/>
            <a:ahLst/>
            <a:rect l="l" t="t" r="r" b="b"/>
            <a:pathLst>
              <a:path w="4752528" h="432048">
                <a:moveTo>
                  <a:pt x="72009" y="0"/>
                </a:moveTo>
                <a:lnTo>
                  <a:pt x="4752528" y="0"/>
                </a:lnTo>
                <a:lnTo>
                  <a:pt x="4752528" y="0"/>
                </a:lnTo>
                <a:lnTo>
                  <a:pt x="4752528" y="360038"/>
                </a:lnTo>
                <a:cubicBezTo>
                  <a:pt x="4752528" y="399807"/>
                  <a:pt x="4720288" y="432047"/>
                  <a:pt x="4680519" y="432047"/>
                </a:cubicBezTo>
                <a:lnTo>
                  <a:pt x="0" y="432048"/>
                </a:lnTo>
                <a:lnTo>
                  <a:pt x="0" y="432048"/>
                </a:ln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2549520" y="465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理描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8"/>
          <p:cNvSpPr/>
          <p:nvPr/>
        </p:nvSpPr>
        <p:spPr>
          <a:xfrm>
            <a:off x="7662240" y="5084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动作描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5444280" y="981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10"/>
          <p:cNvSpPr/>
          <p:nvPr/>
        </p:nvSpPr>
        <p:spPr>
          <a:xfrm>
            <a:off x="826920" y="177336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1"/>
          <p:cNvSpPr/>
          <p:nvPr/>
        </p:nvSpPr>
        <p:spPr>
          <a:xfrm>
            <a:off x="1042920" y="1773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12"/>
          <p:cNvSpPr/>
          <p:nvPr/>
        </p:nvSpPr>
        <p:spPr>
          <a:xfrm>
            <a:off x="3059280" y="2205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13"/>
          <p:cNvSpPr/>
          <p:nvPr/>
        </p:nvSpPr>
        <p:spPr>
          <a:xfrm>
            <a:off x="3348000" y="2205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4"/>
          <p:cNvSpPr/>
          <p:nvPr/>
        </p:nvSpPr>
        <p:spPr>
          <a:xfrm>
            <a:off x="3995640" y="270828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15"/>
          <p:cNvSpPr/>
          <p:nvPr/>
        </p:nvSpPr>
        <p:spPr>
          <a:xfrm>
            <a:off x="4284720" y="270828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6"/>
          <p:cNvSpPr/>
          <p:nvPr/>
        </p:nvSpPr>
        <p:spPr>
          <a:xfrm>
            <a:off x="255600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7"/>
          <p:cNvSpPr/>
          <p:nvPr/>
        </p:nvSpPr>
        <p:spPr>
          <a:xfrm>
            <a:off x="284328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"/>
          <p:cNvSpPr/>
          <p:nvPr/>
        </p:nvSpPr>
        <p:spPr>
          <a:xfrm>
            <a:off x="1774800" y="1001520"/>
            <a:ext cx="60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课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说法有误的一项是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信客》以时间为顺序来组织材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理清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分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信客》作者余秋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当代著名艺术理论家、文化史学家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文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文以“信客”为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“信客”这一特殊职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及这一特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造就的信客特殊的品质和素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劳任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诚信无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人宽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在写信客之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写一个年老的信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目的是告诉人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切不可像老信客一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贪图别人的财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"/>
          <p:cNvSpPr/>
          <p:nvPr/>
        </p:nvSpPr>
        <p:spPr>
          <a:xfrm>
            <a:off x="395280" y="558972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“老信客贪图别人的财物”是错误的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"/>
          <p:cNvSpPr/>
          <p:nvPr/>
        </p:nvSpPr>
        <p:spPr>
          <a:xfrm>
            <a:off x="5807160" y="11253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对角圆角矩形 5"/>
          <p:cNvSpPr/>
          <p:nvPr/>
        </p:nvSpPr>
        <p:spPr>
          <a:xfrm>
            <a:off x="250920" y="5445000"/>
            <a:ext cx="7561080" cy="720720"/>
          </a:xfrm>
          <a:custGeom>
            <a:avLst/>
            <a:gdLst/>
            <a:ahLst/>
            <a:rect l="l" t="t" r="r" b="b"/>
            <a:pathLst>
              <a:path w="7560840" h="720080">
                <a:moveTo>
                  <a:pt x="120015" y="0"/>
                </a:moveTo>
                <a:lnTo>
                  <a:pt x="7560840" y="0"/>
                </a:lnTo>
                <a:lnTo>
                  <a:pt x="7560840" y="0"/>
                </a:lnTo>
                <a:lnTo>
                  <a:pt x="7560840" y="600064"/>
                </a:lnTo>
                <a:cubicBezTo>
                  <a:pt x="7560840" y="666346"/>
                  <a:pt x="7507107" y="720079"/>
                  <a:pt x="7440825" y="720079"/>
                </a:cubicBezTo>
                <a:lnTo>
                  <a:pt x="0" y="720080"/>
                </a:lnTo>
                <a:lnTo>
                  <a:pt x="0" y="720080"/>
                </a:lnTo>
                <a:lnTo>
                  <a:pt x="0" y="120015"/>
                </a:lnTo>
                <a:cubicBezTo>
                  <a:pt x="0" y="53733"/>
                  <a:pt x="53733" y="0"/>
                  <a:pt x="12001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"/>
          <p:cNvSpPr/>
          <p:nvPr/>
        </p:nvSpPr>
        <p:spPr>
          <a:xfrm>
            <a:off x="2017080" y="1073160"/>
            <a:ext cx="498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为“我说诚信”这次主题班会办一期手抄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照下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报名和三个栏目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诚信——你我的第二个“身份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栏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近“诚”与“信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栏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2364120" y="335772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诚实守信——人品指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"/>
          <p:cNvSpPr/>
          <p:nvPr/>
        </p:nvSpPr>
        <p:spPr>
          <a:xfrm>
            <a:off x="2484360" y="378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诚信名言录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诚信故事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6"/>
          <p:cNvSpPr/>
          <p:nvPr/>
        </p:nvSpPr>
        <p:spPr>
          <a:xfrm>
            <a:off x="2870280" y="501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的诚信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9"/>
          <p:cNvSpPr/>
          <p:nvPr/>
        </p:nvSpPr>
        <p:spPr>
          <a:xfrm>
            <a:off x="1979640" y="378936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0"/>
          <p:cNvSpPr/>
          <p:nvPr/>
        </p:nvSpPr>
        <p:spPr>
          <a:xfrm>
            <a:off x="2484360" y="436572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11"/>
          <p:cNvSpPr/>
          <p:nvPr/>
        </p:nvSpPr>
        <p:spPr>
          <a:xfrm>
            <a:off x="270036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2"/>
          <p:cNvSpPr/>
          <p:nvPr/>
        </p:nvSpPr>
        <p:spPr>
          <a:xfrm>
            <a:off x="2556000" y="544500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5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8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1161720" y="1396800"/>
            <a:ext cx="6297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跋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私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文绉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掂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唏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迟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吊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潦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糟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嫉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噩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猝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呵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诘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伎俩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颠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焦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406880" y="220500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3708360" y="213372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6242400" y="220500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1335600" y="2781360"/>
            <a:ext cx="9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3784680" y="27813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īx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6020640" y="278136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1475640" y="3429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3646080" y="342900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6067080" y="3429000"/>
            <a:ext cx="5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1411920" y="40766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íd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3712320" y="40766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è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6159600" y="4076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9"/>
          <p:cNvSpPr/>
          <p:nvPr/>
        </p:nvSpPr>
        <p:spPr>
          <a:xfrm>
            <a:off x="1403640" y="47242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ēc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0"/>
          <p:cNvSpPr/>
          <p:nvPr/>
        </p:nvSpPr>
        <p:spPr>
          <a:xfrm>
            <a:off x="3924720" y="47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6013080" y="472428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j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ì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2"/>
          <p:cNvSpPr/>
          <p:nvPr/>
        </p:nvSpPr>
        <p:spPr>
          <a:xfrm>
            <a:off x="1555200" y="544500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3"/>
          <p:cNvSpPr/>
          <p:nvPr/>
        </p:nvSpPr>
        <p:spPr>
          <a:xfrm>
            <a:off x="3938400" y="537372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25"/>
          <p:cNvSpPr/>
          <p:nvPr/>
        </p:nvSpPr>
        <p:spPr>
          <a:xfrm>
            <a:off x="755640" y="263700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3492360" y="2637000"/>
            <a:ext cx="1429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27"/>
          <p:cNvSpPr/>
          <p:nvPr/>
        </p:nvSpPr>
        <p:spPr>
          <a:xfrm>
            <a:off x="5580000" y="263700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28"/>
          <p:cNvSpPr/>
          <p:nvPr/>
        </p:nvSpPr>
        <p:spPr>
          <a:xfrm>
            <a:off x="755640" y="328464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9"/>
          <p:cNvSpPr/>
          <p:nvPr/>
        </p:nvSpPr>
        <p:spPr>
          <a:xfrm>
            <a:off x="3132000" y="3284640"/>
            <a:ext cx="14472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0"/>
          <p:cNvSpPr/>
          <p:nvPr/>
        </p:nvSpPr>
        <p:spPr>
          <a:xfrm>
            <a:off x="5651640" y="328464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1"/>
          <p:cNvSpPr/>
          <p:nvPr/>
        </p:nvSpPr>
        <p:spPr>
          <a:xfrm>
            <a:off x="5651640" y="393372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2"/>
          <p:cNvSpPr/>
          <p:nvPr/>
        </p:nvSpPr>
        <p:spPr>
          <a:xfrm>
            <a:off x="3132000" y="3933720"/>
            <a:ext cx="1447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3"/>
          <p:cNvSpPr/>
          <p:nvPr/>
        </p:nvSpPr>
        <p:spPr>
          <a:xfrm>
            <a:off x="1116000" y="3933720"/>
            <a:ext cx="1429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4"/>
          <p:cNvSpPr/>
          <p:nvPr/>
        </p:nvSpPr>
        <p:spPr>
          <a:xfrm>
            <a:off x="3132000" y="4508640"/>
            <a:ext cx="14472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35"/>
          <p:cNvSpPr/>
          <p:nvPr/>
        </p:nvSpPr>
        <p:spPr>
          <a:xfrm>
            <a:off x="5292720" y="4581360"/>
            <a:ext cx="1429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36"/>
          <p:cNvSpPr/>
          <p:nvPr/>
        </p:nvSpPr>
        <p:spPr>
          <a:xfrm>
            <a:off x="3492360" y="4508640"/>
            <a:ext cx="14292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37"/>
          <p:cNvSpPr/>
          <p:nvPr/>
        </p:nvSpPr>
        <p:spPr>
          <a:xfrm>
            <a:off x="5292720" y="5229360"/>
            <a:ext cx="1429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38"/>
          <p:cNvSpPr/>
          <p:nvPr/>
        </p:nvSpPr>
        <p:spPr>
          <a:xfrm>
            <a:off x="5724360" y="5229360"/>
            <a:ext cx="1429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39"/>
          <p:cNvSpPr/>
          <p:nvPr/>
        </p:nvSpPr>
        <p:spPr>
          <a:xfrm>
            <a:off x="3564000" y="587700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40"/>
          <p:cNvSpPr/>
          <p:nvPr/>
        </p:nvSpPr>
        <p:spPr>
          <a:xfrm>
            <a:off x="3059280" y="522936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1"/>
          <p:cNvSpPr/>
          <p:nvPr/>
        </p:nvSpPr>
        <p:spPr>
          <a:xfrm>
            <a:off x="755640" y="515772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42"/>
          <p:cNvSpPr/>
          <p:nvPr/>
        </p:nvSpPr>
        <p:spPr>
          <a:xfrm>
            <a:off x="755640" y="4508640"/>
            <a:ext cx="14436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3"/>
          <p:cNvSpPr/>
          <p:nvPr/>
        </p:nvSpPr>
        <p:spPr>
          <a:xfrm>
            <a:off x="1042920" y="515772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44"/>
          <p:cNvSpPr/>
          <p:nvPr/>
        </p:nvSpPr>
        <p:spPr>
          <a:xfrm>
            <a:off x="1116000" y="4508640"/>
            <a:ext cx="14292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45"/>
          <p:cNvSpPr/>
          <p:nvPr/>
        </p:nvSpPr>
        <p:spPr>
          <a:xfrm>
            <a:off x="1042920" y="587700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对角圆角矩形 46"/>
          <p:cNvSpPr/>
          <p:nvPr/>
        </p:nvSpPr>
        <p:spPr>
          <a:xfrm>
            <a:off x="324000" y="1484280"/>
            <a:ext cx="8064360" cy="4608720"/>
          </a:xfrm>
          <a:custGeom>
            <a:avLst/>
            <a:gdLst/>
            <a:ahLst/>
            <a:rect l="l" t="t" r="r" b="b"/>
            <a:pathLst>
              <a:path w="8064896" h="4608512">
                <a:moveTo>
                  <a:pt x="768100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840411"/>
                </a:lnTo>
                <a:cubicBezTo>
                  <a:pt x="8064896" y="4264621"/>
                  <a:pt x="7721006" y="4608511"/>
                  <a:pt x="7296796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7"/>
          <p:cNvSpPr/>
          <p:nvPr/>
        </p:nvSpPr>
        <p:spPr>
          <a:xfrm>
            <a:off x="3492360" y="3284640"/>
            <a:ext cx="14292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zkyd.jpg" descr=""/>
          <p:cNvPicPr/>
          <p:nvPr/>
        </p:nvPicPr>
        <p:blipFill>
          <a:blip r:embed="rId1"/>
          <a:stretch/>
        </p:blipFill>
        <p:spPr>
          <a:xfrm>
            <a:off x="2843280" y="331920"/>
            <a:ext cx="3398760" cy="765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3887280" y="112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散文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1897920" y="1616040"/>
            <a:ext cx="5357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考题型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味散文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考点解说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文“形散而神不散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篇幅短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精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典雅而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味无穷。所以想要完全领会其内涵就会遇到一定的障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注散文的标题尤为重要。标题是散文的眼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的内涵一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较丰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文章内容和读者情感心理之间的第一个接触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给读者窥视文章提供的一扇窗子。正因为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中考散文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能力考查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题者常会把目光投向对文章标题的解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zkyd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3398760" cy="6919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1687320" y="733680"/>
            <a:ext cx="6054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解题技巧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品味标题精妙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揣摩标题含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看标题的本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思考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含义。②分析标题的作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明写作对象、体会主要内容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贯串全文线索、揭示情感主旨、引起读者兴趣。③最后分析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动形象、新颖含蓄、意味深长、耐人寻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阅读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能否改变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文章标题的含义。②其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的描写对象、主要内容、事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的文章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旨、道理、情感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作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文线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标题出现很多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是行文线索。③最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不能更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否则就会影响表达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zkyd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3400200" cy="7635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2071440" y="1254600"/>
            <a:ext cx="511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常考题型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分析散文的手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考点解说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文的表现手法是指作者在行文措辞和表达思想感情时所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特殊的语句组织方式。散文的表现手法主要包括修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人、夸张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详略、象征、对比、衬托、开门见山、托物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志、借景抒情、正反对比、侧面烘托、虚实结合、以小见大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卒章显志、巧设悬念、首尾呼应、一线串珠、明线暗线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zkyd.jpg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398760" cy="7653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1404000" y="968400"/>
            <a:ext cx="60674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解题技巧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题步骤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①辨识类型。根据表现手法各自的特点来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②分析内容。分析运用此种手法主要写了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③评价作用。评价在表现中心、塑造人物、抒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感情、布局谋篇等方面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题模式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运用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手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通过写…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文章…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zkyd.jpg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3399120" cy="7653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1991160" y="1147320"/>
            <a:ext cx="563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常考题型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达体验感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考点解说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探究、作品感受、情感体验、观点评价、阅读感悟等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具有开放性和探究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多角度、全方位地考查学生的思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程、探究能力、创新能力和赏析体验感悟能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鼓励学生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个性化的见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合学生展现独特个性和特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类试题具有两大鲜明的特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是限制条件比较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少有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障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我们的答题提供了广阔的空间。二是紧扣文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们的生活实际联系紧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展性比较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从文本的全篇入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某个句段生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触发我们的思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此沟通我们的生活、情感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想。因此这类题目的量在逐年增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查的形式也多种多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是对描写对象、对人物的情感态度、对文章内容等的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zkyd.jpg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398760" cy="7653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"/>
          <p:cNvSpPr/>
          <p:nvPr/>
        </p:nvSpPr>
        <p:spPr>
          <a:xfrm>
            <a:off x="1617480" y="1433520"/>
            <a:ext cx="616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解题技巧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完成其他题目的基础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样的开放题往往放在阅读的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一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复揣摩文章的主旨——走进文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答题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仔细审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答题指向。无论题目中有没有这个条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须紧扣文章。要弄明白是围绕全文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是以一个句段为突破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理思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观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时链接生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自己生活中与文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自己最有感受、体会最深的一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炼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文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草稿纸上修改加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没有时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在脑海里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摩提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保证语言规范通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理清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次分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整誊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答题。书写越来越受到重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我们学习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惯、语文基本素养的体现。在平时的练习和考试中要养成认真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、保持文面整洁的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zkyd.jpg" descr=""/>
          <p:cNvPicPr/>
          <p:nvPr/>
        </p:nvPicPr>
        <p:blipFill>
          <a:blip r:embed="rId1"/>
          <a:stretch/>
        </p:blipFill>
        <p:spPr>
          <a:xfrm>
            <a:off x="2771640" y="331920"/>
            <a:ext cx="3399120" cy="765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395280" y="1432440"/>
            <a:ext cx="840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　　　　　     格布上的花　　　　毕淑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　　　　　　　　　　    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绥化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日子和坏日子是有一定比例的。就是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一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可能都是好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——天天蜜里调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不可能都是坏日子——每时每刻黄连拌苦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必是好坏日子交叉着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同一块花格子布。如果算下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好日子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如同布面上的红黄色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堂鲜艳。如果你的坏日子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就是黑灰色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阴云密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是好坏日子的分水岭、试金石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像不是。有钱的人不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承认他过的是好日子。钱少的人或没钱的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不一定觉得他过的就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坏日子。健康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不是。无痛无灾的人不一定觉得他过的是好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罹病残疾的人也不一定承认他过的就是坏日子。美丽和能力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似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像了。看看周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多少漂亮能干的男人和女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锁着眉苦着脸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抱怨岁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难熬啊……说了若干的标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不是。那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是好日子和坏日子的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限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zkyd.jpg" descr=""/>
          <p:cNvPicPr/>
          <p:nvPr/>
        </p:nvPicPr>
        <p:blipFill>
          <a:blip r:embed="rId1"/>
          <a:stretch/>
        </p:blipFill>
        <p:spPr>
          <a:xfrm>
            <a:off x="2987640" y="331920"/>
            <a:ext cx="3398760" cy="765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"/>
          <p:cNvSpPr/>
          <p:nvPr/>
        </p:nvSpPr>
        <p:spPr>
          <a:xfrm>
            <a:off x="1994040" y="1398600"/>
            <a:ext cx="5378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知他人的答案如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爱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爱的日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我们很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每一分钱都能带给我们双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乐。也许我们的身体坏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况愈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我们牵着相爱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慢慢老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旅途就不再孤独。也许我们是平凡和微渺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我们竭尽力量做着喜欢的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中便充溢温暖安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什么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就是好日子了。你的那块花格子布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了鲜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zkyd.jpg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399120" cy="763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1480320" y="13417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文标题“格布上的花”好在哪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395280" y="191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动形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新颖别致。运用比喻的修辞手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好日子、坏日子比喻成格子布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有爱的日子比喻成花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具有美感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能引起读者的阅读兴趣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的是文章标题的作用。文章标题的作用一般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概括主要事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提出中心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③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交代事情发生的时间、人物等写作对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④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新颖别致、引人入胜、激发读者阅读兴趣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⑤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交代文章的线索。解答时要能结合具体的内容作答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出比喻的作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另外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个标题也很生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激发了读者的阅读兴趣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标注 6"/>
          <p:cNvSpPr/>
          <p:nvPr/>
        </p:nvSpPr>
        <p:spPr>
          <a:xfrm>
            <a:off x="179280" y="1916280"/>
            <a:ext cx="8713800" cy="4105080"/>
          </a:xfrm>
          <a:prstGeom prst="wedgeRoundRectCallout">
            <a:avLst>
              <a:gd name="adj1" fmla="val -2208"/>
              <a:gd name="adj2" fmla="val -5359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kyd.jpg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3398760" cy="7639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3369240" y="1380240"/>
            <a:ext cx="2489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文第②段主要运用了什么手法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什么表达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"/>
          <p:cNvSpPr/>
          <p:nvPr/>
        </p:nvSpPr>
        <p:spPr>
          <a:xfrm>
            <a:off x="684360" y="2924280"/>
            <a:ext cx="792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设问手法。引起读者注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激发读者思考。用三个排比句分别回答了不同的人区分好、坏日子的标准也不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出“什么是好日子和坏日子的界限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下文主旨的出现做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对角圆角矩形 6"/>
          <p:cNvSpPr/>
          <p:nvPr/>
        </p:nvSpPr>
        <p:spPr>
          <a:xfrm>
            <a:off x="611280" y="1484280"/>
            <a:ext cx="7993080" cy="1224000"/>
          </a:xfrm>
          <a:custGeom>
            <a:avLst/>
            <a:gdLst/>
            <a:ahLst/>
            <a:rect l="l" t="t" r="r" b="b"/>
            <a:pathLst>
              <a:path w="7992888" h="1224136">
                <a:moveTo>
                  <a:pt x="204026" y="0"/>
                </a:moveTo>
                <a:lnTo>
                  <a:pt x="7992888" y="0"/>
                </a:lnTo>
                <a:lnTo>
                  <a:pt x="7992888" y="0"/>
                </a:lnTo>
                <a:lnTo>
                  <a:pt x="7992888" y="1020109"/>
                </a:lnTo>
                <a:cubicBezTo>
                  <a:pt x="7992888" y="1132789"/>
                  <a:pt x="7901542" y="1224135"/>
                  <a:pt x="7788862" y="1224135"/>
                </a:cubicBezTo>
                <a:lnTo>
                  <a:pt x="0" y="1224136"/>
                </a:lnTo>
                <a:lnTo>
                  <a:pt x="0" y="1224136"/>
                </a:lnTo>
                <a:lnTo>
                  <a:pt x="0" y="204026"/>
                </a:lnTo>
                <a:cubicBezTo>
                  <a:pt x="0" y="91346"/>
                  <a:pt x="91346" y="0"/>
                  <a:pt x="20402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对角圆角矩形 7"/>
          <p:cNvSpPr/>
          <p:nvPr/>
        </p:nvSpPr>
        <p:spPr>
          <a:xfrm>
            <a:off x="539640" y="2924280"/>
            <a:ext cx="8136000" cy="2952720"/>
          </a:xfrm>
          <a:custGeom>
            <a:avLst/>
            <a:gdLst/>
            <a:ahLst/>
            <a:rect l="l" t="t" r="r" b="b"/>
            <a:pathLst>
              <a:path w="8136904" h="2952328">
                <a:moveTo>
                  <a:pt x="492064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2460263"/>
                </a:lnTo>
                <a:cubicBezTo>
                  <a:pt x="8136904" y="2732022"/>
                  <a:pt x="7916599" y="2952327"/>
                  <a:pt x="7644840" y="2952327"/>
                </a:cubicBezTo>
                <a:lnTo>
                  <a:pt x="0" y="2952328"/>
                </a:lnTo>
                <a:lnTo>
                  <a:pt x="0" y="2952328"/>
                </a:lnTo>
                <a:lnTo>
                  <a:pt x="0" y="492064"/>
                </a:lnTo>
                <a:cubicBezTo>
                  <a:pt x="0" y="220305"/>
                  <a:pt x="220305" y="0"/>
                  <a:pt x="49206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961200" y="141444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880280" y="2133720"/>
            <a:ext cx="2186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òu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臭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ù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乳臭未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6124680" y="2133720"/>
            <a:ext cx="1793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ì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刚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ì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干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1804680" y="3789360"/>
            <a:ext cx="142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ǐ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济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ì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接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114240" y="3789360"/>
            <a:ext cx="1983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颤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颤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829800" y="26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5150880" y="2708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755640" y="429264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4719960" y="422100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左大括号 15"/>
          <p:cNvSpPr/>
          <p:nvPr/>
        </p:nvSpPr>
        <p:spPr>
          <a:xfrm>
            <a:off x="1403280" y="2492280"/>
            <a:ext cx="46080" cy="79236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792360"/>
              <a:gd name="textAreaBottom" fmla="*/ 79128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左大括号 17"/>
          <p:cNvSpPr/>
          <p:nvPr/>
        </p:nvSpPr>
        <p:spPr>
          <a:xfrm>
            <a:off x="1403280" y="4076640"/>
            <a:ext cx="46080" cy="79236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792360"/>
              <a:gd name="textAreaBottom" fmla="*/ 79128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左大括号 18"/>
          <p:cNvSpPr/>
          <p:nvPr/>
        </p:nvSpPr>
        <p:spPr>
          <a:xfrm>
            <a:off x="5724360" y="2492280"/>
            <a:ext cx="46080" cy="79236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792360"/>
              <a:gd name="textAreaBottom" fmla="*/ 79128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左大括号 19"/>
          <p:cNvSpPr/>
          <p:nvPr/>
        </p:nvSpPr>
        <p:spPr>
          <a:xfrm>
            <a:off x="5796000" y="4149720"/>
            <a:ext cx="46080" cy="79200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792000"/>
              <a:gd name="textAreaBottom" fmla="*/ 79092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对角圆角矩形 20"/>
          <p:cNvSpPr/>
          <p:nvPr/>
        </p:nvSpPr>
        <p:spPr>
          <a:xfrm>
            <a:off x="539640" y="1413000"/>
            <a:ext cx="8064720" cy="4103640"/>
          </a:xfrm>
          <a:custGeom>
            <a:avLst/>
            <a:gdLst/>
            <a:ahLst/>
            <a:rect l="l" t="t" r="r" b="b"/>
            <a:pathLst>
              <a:path w="8064896" h="4104456">
                <a:moveTo>
                  <a:pt x="684089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420366"/>
                </a:lnTo>
                <a:cubicBezTo>
                  <a:pt x="8064896" y="3798178"/>
                  <a:pt x="7758619" y="4104455"/>
                  <a:pt x="7380807" y="4104455"/>
                </a:cubicBezTo>
                <a:lnTo>
                  <a:pt x="0" y="4104456"/>
                </a:lnTo>
                <a:lnTo>
                  <a:pt x="0" y="4104456"/>
                </a:lnTo>
                <a:lnTo>
                  <a:pt x="0" y="684089"/>
                </a:lnTo>
                <a:cubicBezTo>
                  <a:pt x="0" y="306277"/>
                  <a:pt x="306277" y="0"/>
                  <a:pt x="68408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zkyd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3398760" cy="7635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"/>
          <p:cNvSpPr/>
          <p:nvPr/>
        </p:nvSpPr>
        <p:spPr>
          <a:xfrm>
            <a:off x="2842920" y="105408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③段单独成段好在哪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试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468360" y="1628640"/>
            <a:ext cx="8280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强调作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文章脉络清晰。②承上启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出文章主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心思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题考查的是段落的作用。在作品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独句成段都是为了强调。答题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要能结合上下文来作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别答出在内容上的作用和在结构上的作用。内容上的作用可以结合文章内容来分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上的作用有三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出下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上启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应开头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对角圆角矩形 6"/>
          <p:cNvSpPr/>
          <p:nvPr/>
        </p:nvSpPr>
        <p:spPr>
          <a:xfrm>
            <a:off x="395280" y="1052640"/>
            <a:ext cx="8353440" cy="647640"/>
          </a:xfrm>
          <a:custGeom>
            <a:avLst/>
            <a:gdLst/>
            <a:ahLst/>
            <a:rect l="l" t="t" r="r" b="b"/>
            <a:pathLst>
              <a:path w="8352928" h="648072">
                <a:moveTo>
                  <a:pt x="108014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540057"/>
                </a:lnTo>
                <a:cubicBezTo>
                  <a:pt x="8352928" y="599711"/>
                  <a:pt x="8304568" y="648071"/>
                  <a:pt x="8244914" y="648071"/>
                </a:cubicBezTo>
                <a:lnTo>
                  <a:pt x="0" y="648072"/>
                </a:lnTo>
                <a:lnTo>
                  <a:pt x="0" y="648072"/>
                </a:lnTo>
                <a:lnTo>
                  <a:pt x="0" y="108014"/>
                </a:lnTo>
                <a:cubicBezTo>
                  <a:pt x="0" y="48360"/>
                  <a:pt x="48360" y="0"/>
                  <a:pt x="10801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对角圆角矩形 7"/>
          <p:cNvSpPr/>
          <p:nvPr/>
        </p:nvSpPr>
        <p:spPr>
          <a:xfrm>
            <a:off x="250920" y="1773360"/>
            <a:ext cx="8497800" cy="4319640"/>
          </a:xfrm>
          <a:custGeom>
            <a:avLst/>
            <a:gdLst/>
            <a:ahLst/>
            <a:rect l="l" t="t" r="r" b="b"/>
            <a:pathLst>
              <a:path w="8496944" h="4320480">
                <a:moveTo>
                  <a:pt x="720094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600385"/>
                </a:lnTo>
                <a:cubicBezTo>
                  <a:pt x="8496944" y="3998082"/>
                  <a:pt x="8174547" y="4320479"/>
                  <a:pt x="7776850" y="4320479"/>
                </a:cubicBezTo>
                <a:lnTo>
                  <a:pt x="0" y="4320480"/>
                </a:lnTo>
                <a:lnTo>
                  <a:pt x="0" y="4320480"/>
                </a:lnTo>
                <a:lnTo>
                  <a:pt x="0" y="720094"/>
                </a:lnTo>
                <a:cubicBezTo>
                  <a:pt x="0" y="322397"/>
                  <a:pt x="322397" y="0"/>
                  <a:pt x="72009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4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zkyd.jpg" descr=""/>
          <p:cNvPicPr/>
          <p:nvPr/>
        </p:nvPicPr>
        <p:blipFill>
          <a:blip r:embed="rId1"/>
          <a:stretch/>
        </p:blipFill>
        <p:spPr>
          <a:xfrm>
            <a:off x="2987640" y="331920"/>
            <a:ext cx="3398760" cy="765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"/>
          <p:cNvSpPr/>
          <p:nvPr/>
        </p:nvSpPr>
        <p:spPr>
          <a:xfrm>
            <a:off x="2052360" y="1236600"/>
            <a:ext cx="4839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选文结尾句“你的那块花格子布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了鲜花”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5"/>
          <p:cNvSpPr/>
          <p:nvPr/>
        </p:nvSpPr>
        <p:spPr>
          <a:xfrm>
            <a:off x="826920" y="3284640"/>
            <a:ext cx="7417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内容上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深化主题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告诉我们生活中有爱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生就会如花一样绚烂多彩。②结构上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照应题目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束全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标注 6"/>
          <p:cNvSpPr/>
          <p:nvPr/>
        </p:nvSpPr>
        <p:spPr>
          <a:xfrm>
            <a:off x="611280" y="3213000"/>
            <a:ext cx="7632720" cy="2376720"/>
          </a:xfrm>
          <a:prstGeom prst="wedgeRoundRectCallout">
            <a:avLst>
              <a:gd name="adj1" fmla="val -1259"/>
              <a:gd name="adj2" fmla="val -6312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标注 7"/>
          <p:cNvSpPr/>
          <p:nvPr/>
        </p:nvSpPr>
        <p:spPr>
          <a:xfrm>
            <a:off x="611280" y="1341360"/>
            <a:ext cx="7561080" cy="1224000"/>
          </a:xfrm>
          <a:prstGeom prst="wedgeRoundRectCallout">
            <a:avLst>
              <a:gd name="adj1" fmla="val 6736"/>
              <a:gd name="adj2" fmla="val 7018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468360" y="12099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爱的日子芳香四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撷取你格子布上最明艳的—朵花与大家分享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以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zkyd.jpg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3398760" cy="763560"/>
          </a:xfrm>
          <a:prstGeom prst="rect">
            <a:avLst/>
          </a:prstGeom>
          <a:ln w="0">
            <a:noFill/>
          </a:ln>
        </p:spPr>
      </p:pic>
      <p:sp>
        <p:nvSpPr>
          <p:cNvPr id="292" name="矩形 5"/>
          <p:cNvSpPr/>
          <p:nvPr/>
        </p:nvSpPr>
        <p:spPr>
          <a:xfrm>
            <a:off x="539640" y="2060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记得第一次去城里上学。早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妈妈和我去车站。车子刚要启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妈妈从车外递给我一个大包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趔趔趄趄地。我才想起昨晚妈妈半夜未眠。车子渐行渐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妈妈的身影越来越小。我把包裹紧紧地抱在胸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泪水慢慢地流下来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的是对文章主题的理解能力。解答此题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首先要理解文章中“格子布上的花”这一内涵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凡的生活中也有爱。明确这一主题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调动自己的生活积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找到生活中的某一事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描绘的过程中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突出“爱”这一主题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语言简洁明了即可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0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889920" y="1485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540440" y="1916280"/>
            <a:ext cx="1962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黯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谙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喑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ī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喑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284800" y="1916280"/>
            <a:ext cx="2543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诓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诓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框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眶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眼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601280" y="400536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缭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缭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僚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官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潦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5430600" y="4005360"/>
            <a:ext cx="21988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掂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掂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惦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踮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踮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左大括号 11"/>
          <p:cNvSpPr/>
          <p:nvPr/>
        </p:nvSpPr>
        <p:spPr>
          <a:xfrm>
            <a:off x="1187280" y="220500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440000"/>
              <a:gd name="textAreaBottom" fmla="*/ 14364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左大括号 13"/>
          <p:cNvSpPr/>
          <p:nvPr/>
        </p:nvSpPr>
        <p:spPr>
          <a:xfrm>
            <a:off x="4932360" y="2276640"/>
            <a:ext cx="144360" cy="143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439640"/>
              <a:gd name="textAreaBottom" fmla="*/ 143604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左大括号 14"/>
          <p:cNvSpPr/>
          <p:nvPr/>
        </p:nvSpPr>
        <p:spPr>
          <a:xfrm>
            <a:off x="5003640" y="429264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440000"/>
              <a:gd name="textAreaBottom" fmla="*/ 14364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左大括号 15"/>
          <p:cNvSpPr/>
          <p:nvPr/>
        </p:nvSpPr>
        <p:spPr>
          <a:xfrm>
            <a:off x="1258920" y="429264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440000"/>
              <a:gd name="textAreaBottom" fmla="*/ 14364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对角圆角矩形 16"/>
          <p:cNvSpPr/>
          <p:nvPr/>
        </p:nvSpPr>
        <p:spPr>
          <a:xfrm>
            <a:off x="395280" y="1413000"/>
            <a:ext cx="8064360" cy="4608360"/>
          </a:xfrm>
          <a:custGeom>
            <a:avLst/>
            <a:gdLst/>
            <a:ahLst/>
            <a:rect l="l" t="t" r="r" b="b"/>
            <a:pathLst>
              <a:path w="8064896" h="4608512">
                <a:moveTo>
                  <a:pt x="768100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840411"/>
                </a:lnTo>
                <a:cubicBezTo>
                  <a:pt x="8064896" y="4264621"/>
                  <a:pt x="7721006" y="4608511"/>
                  <a:pt x="7296796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889560" y="14144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成语辨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55640" y="2060640"/>
          <a:ext cx="7921800" cy="3600360"/>
        </p:xfrm>
        <a:graphic>
          <a:graphicData uri="http://schemas.openxmlformats.org/drawingml/2006/table">
            <a:tbl>
              <a:tblPr/>
              <a:tblGrid>
                <a:gridCol w="879480"/>
                <a:gridCol w="7042320"/>
              </a:tblGrid>
              <a:tr h="72072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绘声绘色　 活灵活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求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216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辨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矩形 9"/>
          <p:cNvSpPr/>
          <p:nvPr/>
        </p:nvSpPr>
        <p:spPr>
          <a:xfrm>
            <a:off x="1692360" y="364500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声绘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侧重叙述、描写生动逼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指讲述故事或描写场面。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文课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老师绘声绘色地给我们讲述了他有趣的经历。活灵活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侧重描绘、模仿的人或事物生动逼真。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飞檐上的两条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鳞金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灵活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似欲腾空飞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1835280" y="29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形容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强调生动逼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8"/>
          <p:cNvSpPr/>
          <p:nvPr/>
        </p:nvSpPr>
        <p:spPr>
          <a:xfrm>
            <a:off x="61128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"/>
          <p:cNvSpPr/>
          <p:nvPr/>
        </p:nvSpPr>
        <p:spPr>
          <a:xfrm>
            <a:off x="611280" y="692280"/>
            <a:ext cx="21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791280" y="1765080"/>
            <a:ext cx="92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克扣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糟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晦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穷愁潦倒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跋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无所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声慢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尘苦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唏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901440" y="1197000"/>
            <a:ext cx="1375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1332000" y="1844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私自扣减应该发给别人的财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2498040" y="22766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中是毁坏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1403280" y="2781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中指人倒霉时难看的气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2668320" y="3213000"/>
            <a:ext cx="14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生活愁苦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颓丧失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1990440" y="3645000"/>
            <a:ext cx="20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爬山蹚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旅途艰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2545200" y="41497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也没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835280" y="4581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小声和气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慢条斯理地说话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6"/>
          <p:cNvSpPr/>
          <p:nvPr/>
        </p:nvSpPr>
        <p:spPr>
          <a:xfrm>
            <a:off x="3057840" y="50133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饱经沧桑的旅途生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7"/>
          <p:cNvSpPr/>
          <p:nvPr/>
        </p:nvSpPr>
        <p:spPr>
          <a:xfrm>
            <a:off x="1476360" y="5445000"/>
            <a:ext cx="457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哭泣后不由自主地急促呼吸、抽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对角圆角矩形 18"/>
          <p:cNvSpPr/>
          <p:nvPr/>
        </p:nvSpPr>
        <p:spPr>
          <a:xfrm>
            <a:off x="395280" y="1197000"/>
            <a:ext cx="8209080" cy="4824360"/>
          </a:xfrm>
          <a:custGeom>
            <a:avLst/>
            <a:gdLst/>
            <a:ahLst/>
            <a:rect l="l" t="t" r="r" b="b"/>
            <a:pathLst>
              <a:path w="8208912" h="4824536">
                <a:moveTo>
                  <a:pt x="804105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4020430"/>
                </a:lnTo>
                <a:cubicBezTo>
                  <a:pt x="8208912" y="4464525"/>
                  <a:pt x="7848902" y="4824535"/>
                  <a:pt x="7404807" y="4824535"/>
                </a:cubicBezTo>
                <a:lnTo>
                  <a:pt x="0" y="4824536"/>
                </a:lnTo>
                <a:lnTo>
                  <a:pt x="0" y="4824536"/>
                </a:lnTo>
                <a:lnTo>
                  <a:pt x="0" y="804105"/>
                </a:lnTo>
                <a:cubicBezTo>
                  <a:pt x="0" y="360010"/>
                  <a:pt x="360010" y="0"/>
                  <a:pt x="80410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Administrator\Desktop\花\QQ截图20160404200422.png"/>
          <p:cNvPicPr/>
          <p:nvPr/>
        </p:nvPicPr>
        <p:blipFill>
          <a:blip r:embed="rId2"/>
          <a:stretch/>
        </p:blipFill>
        <p:spPr>
          <a:xfrm>
            <a:off x="6804000" y="3933720"/>
            <a:ext cx="18763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827640" y="1504800"/>
            <a:ext cx="107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伎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声绘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能可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猝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呵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噩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诘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焦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颠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绉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戚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2551680" y="1484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正当的手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2123280" y="184464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寻找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需要的人才或东西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2195640" y="2205000"/>
            <a:ext cx="55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叙述、描写生动逼真。绘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描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0"/>
          <p:cNvSpPr/>
          <p:nvPr/>
        </p:nvSpPr>
        <p:spPr>
          <a:xfrm>
            <a:off x="2124000" y="263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难做的事居然能做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值得珍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1"/>
          <p:cNvSpPr/>
          <p:nvPr/>
        </p:nvSpPr>
        <p:spPr>
          <a:xfrm>
            <a:off x="2368440" y="29973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突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出乎意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2316240" y="3357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声斥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1547640" y="3716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亲近或敬爱的人死亡的消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2061360" y="407664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追问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责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6"/>
          <p:cNvSpPr/>
          <p:nvPr/>
        </p:nvSpPr>
        <p:spPr>
          <a:xfrm>
            <a:off x="2316240" y="44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非常着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7"/>
          <p:cNvSpPr/>
          <p:nvPr/>
        </p:nvSpPr>
        <p:spPr>
          <a:xfrm>
            <a:off x="2214360" y="47973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穷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受挫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1763640" y="5157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人谈吐、举止文雅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2614680" y="5516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忧伤的神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对角圆角矩形 22"/>
          <p:cNvSpPr/>
          <p:nvPr/>
        </p:nvSpPr>
        <p:spPr>
          <a:xfrm>
            <a:off x="395280" y="1484280"/>
            <a:ext cx="8209080" cy="4681440"/>
          </a:xfrm>
          <a:custGeom>
            <a:avLst/>
            <a:gdLst/>
            <a:ahLst/>
            <a:rect l="l" t="t" r="r" b="b"/>
            <a:pathLst>
              <a:path w="8208912" h="4680520">
                <a:moveTo>
                  <a:pt x="780102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900417"/>
                </a:lnTo>
                <a:cubicBezTo>
                  <a:pt x="8208912" y="4331255"/>
                  <a:pt x="7859648" y="4680519"/>
                  <a:pt x="7428810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Users\Administrator\Desktop\花\QQ截图20160316130309.png"/>
          <p:cNvPicPr/>
          <p:nvPr/>
        </p:nvPicPr>
        <p:blipFill>
          <a:blip r:embed="rId2"/>
          <a:stretch/>
        </p:blipFill>
        <p:spPr>
          <a:xfrm>
            <a:off x="7236000" y="4292640"/>
            <a:ext cx="1341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1331280" y="1331640"/>
            <a:ext cx="4898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秋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194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生于浙江省余姚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著名文化学者、理论家、文化史学家、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成为当时中国大陆最年轻的文科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198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被授予上海十大学术精英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授予国家级突出贡献专家等荣誉称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被授予甘肃联合大学荣誉教授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起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澳门科技大学人文艺术学院院长。主要著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《文化苦旅》《文明的碎片》《山居笔记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千年一叹》《行者无疆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对角圆角矩形 5"/>
          <p:cNvSpPr/>
          <p:nvPr/>
        </p:nvSpPr>
        <p:spPr>
          <a:xfrm>
            <a:off x="324000" y="1413000"/>
            <a:ext cx="7848360" cy="4824360"/>
          </a:xfrm>
          <a:custGeom>
            <a:avLst/>
            <a:gdLst/>
            <a:ahLst/>
            <a:rect l="l" t="t" r="r" b="b"/>
            <a:pathLst>
              <a:path w="7848872" h="4824536">
                <a:moveTo>
                  <a:pt x="804105" y="0"/>
                </a:moveTo>
                <a:lnTo>
                  <a:pt x="7848872" y="0"/>
                </a:lnTo>
                <a:lnTo>
                  <a:pt x="7848872" y="0"/>
                </a:lnTo>
                <a:lnTo>
                  <a:pt x="7848872" y="4020430"/>
                </a:lnTo>
                <a:cubicBezTo>
                  <a:pt x="7848872" y="4464525"/>
                  <a:pt x="7488862" y="4824535"/>
                  <a:pt x="7044767" y="4824535"/>
                </a:cubicBezTo>
                <a:lnTo>
                  <a:pt x="0" y="4824536"/>
                </a:lnTo>
                <a:lnTo>
                  <a:pt x="0" y="4824536"/>
                </a:lnTo>
                <a:lnTo>
                  <a:pt x="0" y="804105"/>
                </a:lnTo>
                <a:cubicBezTo>
                  <a:pt x="0" y="360010"/>
                  <a:pt x="360010" y="0"/>
                  <a:pt x="80410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age31.jpg" descr="id:2147501379;FounderCES"/>
          <p:cNvPicPr/>
          <p:nvPr/>
        </p:nvPicPr>
        <p:blipFill>
          <a:blip r:embed="rId2"/>
          <a:stretch/>
        </p:blipFill>
        <p:spPr>
          <a:xfrm>
            <a:off x="7020000" y="2205000"/>
            <a:ext cx="1873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2176200" y="1743840"/>
            <a:ext cx="520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旧时乡村没有邮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外通信往来主要靠从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种特殊职业的人。以“信客”为题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交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写作的对象和内容。标题简单平实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有概括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对角圆角矩形 5"/>
          <p:cNvSpPr/>
          <p:nvPr/>
        </p:nvSpPr>
        <p:spPr>
          <a:xfrm>
            <a:off x="611280" y="1628640"/>
            <a:ext cx="8137440" cy="2808360"/>
          </a:xfrm>
          <a:custGeom>
            <a:avLst/>
            <a:gdLst/>
            <a:ahLst/>
            <a:rect l="l" t="t" r="r" b="b"/>
            <a:pathLst>
              <a:path w="8136904" h="2808312">
                <a:moveTo>
                  <a:pt x="468061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2340250"/>
                </a:lnTo>
                <a:cubicBezTo>
                  <a:pt x="8136904" y="2598753"/>
                  <a:pt x="7927346" y="2808311"/>
                  <a:pt x="7668843" y="2808311"/>
                </a:cubicBezTo>
                <a:lnTo>
                  <a:pt x="0" y="2808312"/>
                </a:lnTo>
                <a:lnTo>
                  <a:pt x="0" y="2808312"/>
                </a:lnTo>
                <a:lnTo>
                  <a:pt x="0" y="468061"/>
                </a:lnTo>
                <a:cubicBezTo>
                  <a:pt x="0" y="209558"/>
                  <a:pt x="209558" y="0"/>
                  <a:pt x="46806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6" descr="py"/>
          <p:cNvPicPr/>
          <p:nvPr/>
        </p:nvPicPr>
        <p:blipFill>
          <a:blip r:embed="rId2"/>
          <a:stretch/>
        </p:blipFill>
        <p:spPr>
          <a:xfrm>
            <a:off x="3708360" y="3716280"/>
            <a:ext cx="4427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